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79AD-F156-4BB0-B769-2689DE3C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D3A-8B1C-4485-B6D5-E7BC4564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225-AF24-4D31-AA35-5EF287B3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6F2-03E3-4C4D-80E2-21E60F53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E106-6CBC-4A3E-A27F-3DD540BFB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A956-9E77-4FF5-A9F7-6E54E957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8DC5-618B-47DF-8233-6C073B9C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8A3-12C9-4376-993F-2DB5CB59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49D-48A0-4215-A091-318A69AA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983D-0264-492E-A4AB-D5AF8DC0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FAB3-8178-4C50-8E8C-6AE5EE95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7A7-5A84-4EFC-A875-2B6A4B38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32F4-A6DF-43BC-9DBC-E56D20264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novation platfo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imGoats reflection workshop – July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 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novation platforms (IPs) are coalitions of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ifferent type of act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come regularly together to share experiences,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knowled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kills, ideas and resources in order to address problems and opportunities of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mutual intere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les of well functioning 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y are inclusive and follow participatory process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58ed5"/>
                </a:solidFill>
                <a:latin typeface="Calibri"/>
              </a:rPr>
              <a:t>There is a common vision and agreed set of operating modalit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embers are committed and have adequate incentives to participa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58ed5"/>
                </a:solidFill>
                <a:latin typeface="Calibri"/>
              </a:rPr>
              <a:t>Diversity of members capabilities, capacities, resources, skills, knowledge, interests and needs are acknowledg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re is efficient and effective communication; knowledge and information sharing; joint identification of  challenges and opportunities and, options to address them through joint a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58ed5"/>
                </a:solidFill>
                <a:latin typeface="Calibri"/>
              </a:rPr>
              <a:t>There is an appreciation for learning by doing and, M&amp;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4" descr=""/>
          <p:cNvPicPr/>
          <p:nvPr/>
        </p:nvPicPr>
        <p:blipFill>
          <a:blip r:embed="rId1"/>
          <a:stretch/>
        </p:blipFill>
        <p:spPr>
          <a:xfrm>
            <a:off x="433440" y="1573200"/>
            <a:ext cx="8265960" cy="33037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6934320" y="38196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d secu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tr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876920" y="3819600"/>
            <a:ext cx="152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More goats produc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goats so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743200" y="3809880"/>
            <a:ext cx="1523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Improved coordination,  information exchange, interactions, 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838080" y="3819600"/>
            <a:ext cx="152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Inclus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ipa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oint decision ma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c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me key processes for design of IP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3520" y="1295280"/>
          <a:ext cx="8229600" cy="5218200"/>
        </p:xfrm>
        <a:graphic>
          <a:graphicData uri="http://schemas.openxmlformats.org/drawingml/2006/table">
            <a:tbl>
              <a:tblPr/>
              <a:tblGrid>
                <a:gridCol w="1676160"/>
                <a:gridCol w="65534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c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ey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are actors identi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 all relevant actors represented (incl. the poor and wom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w committed and engaged are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sion/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ves/go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ear roles and tas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on sharing &amp; commun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s the diversity in members knowledge, skills, interests, needs, are acknowledged (how is this being us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on exchange and communication within IP and beyond 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 sol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int identification of constraints and opportunities and options to address th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atic process of planning, action, refl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o facilitates and how selec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vironment of mutual respect, openness, constructive inter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nership/stakeholder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n 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rally, an innovation platform is a mechanism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hance communication and innovation capacit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mong mutually dependent and different type of a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y improving interactions, coordination, and coherence among all actor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facilitate learning and contribute to production and use of knowledg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3T18:55:31Z</dcterms:created>
  <dc:creator>Swaans, Kees (ILRI)</dc:creator>
  <dc:description/>
  <dc:language>en-US</dc:language>
  <cp:lastModifiedBy>eleborgne</cp:lastModifiedBy>
  <dcterms:modified xsi:type="dcterms:W3CDTF">2012-07-04T05:21:35Z</dcterms:modified>
  <cp:revision>6</cp:revision>
  <dc:subject/>
  <dc:title>Slide 1</dc:title>
</cp:coreProperties>
</file>